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08776"/>
        <c:axId val="5649996"/>
      </c:barChart>
      <c:catAx>
        <c:axId val="52608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9996"/>
        <c:crosses val="autoZero"/>
        <c:auto val="1"/>
        <c:lblAlgn val="ctr"/>
        <c:lblOffset val="100"/>
        <c:noMultiLvlLbl val="0"/>
      </c:catAx>
      <c:valAx>
        <c:axId val="5649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08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42B-A34A-47B5-8115-0D57132E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816-29DA-4895-96DA-12F75A79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181-343A-41B0-92AE-8C805CDD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B43-5373-4D2C-8CE8-8E2D0DFE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51A-99F9-4AB2-886D-EA4314DB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904-F9FF-4CE8-B403-EBDFD105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B7B-A7DF-45E4-8877-7A154BA1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621-C2DF-4459-B1BA-98A16FCC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BA7-C533-46BB-9540-53016D49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768-1EF0-4F5E-AB7B-E3A7FB4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92C-1E7D-43EB-BA90-3E26F2F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6A8-6FD1-478D-8EED-2D7C816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78C41-82CE-4422-AE00-A42F402D7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