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90210"/>
        <c:axId val="41203189"/>
      </c:barChart>
      <c:catAx>
        <c:axId val="82290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03189"/>
        <c:crosses val="autoZero"/>
        <c:auto val="1"/>
        <c:lblAlgn val="ctr"/>
        <c:lblOffset val="100"/>
        <c:noMultiLvlLbl val="0"/>
      </c:catAx>
      <c:valAx>
        <c:axId val="41203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90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510-DAEA-48BD-A4CD-62D9DA06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27B-E91E-4AF1-8C39-695B54C8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352-D432-4416-9562-7DEA41D3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663-3FA6-4E74-ADFA-7A6E5CA4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FE4-5B43-4C2F-93FE-2A898AD0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923-DC3F-41B8-8DE3-08A5C952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89D-C559-458C-B241-0E950578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4DC-1BEB-459B-9FFF-4FB93021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374-F567-447A-9D10-29BF5BB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95C-4F90-452C-89D0-049590C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27A-19A4-450C-BFAB-7DF89D52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817-68F7-4C01-AD46-7882329D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9B177-D1AB-4C87-9BDC-68BACCF0D8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