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687952"/>
        <c:axId val="24570750"/>
      </c:barChart>
      <c:catAx>
        <c:axId val="446879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70750"/>
        <c:crosses val="autoZero"/>
        <c:auto val="1"/>
        <c:lblAlgn val="ctr"/>
        <c:lblOffset val="100"/>
        <c:noMultiLvlLbl val="0"/>
      </c:catAx>
      <c:valAx>
        <c:axId val="245707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6879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7946-D035-4F7D-97F1-065DB4DC1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9538-52C6-4F6F-A5E8-55E586BF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43DD-698E-40BB-B32B-86FB12A5F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DF07-5A6E-44D5-B159-25103228E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A19C-F82B-468A-B9AD-A0A8AA2E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2AED-12EE-4C60-B76D-0BE0A1F1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2732-4C5A-4768-BEC5-FFB2E751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C347-86B1-4E3D-83F7-4A698FE2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75F5-F0A8-4397-B766-8C27BEA4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F712-3413-4DEA-9F1C-CECFFF27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D0DE-27DA-45E7-87DA-4CF51E16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8FF6-9E08-4569-9B24-B12D8E0C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8FF64-E62E-4616-8E58-40977D9A6E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